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960-9CFE-463E-873C-3F1FD634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90F-E685-4F21-AD96-7DDE7FB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CC1-5174-437C-A787-2B5872B9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D6F-EBF6-46BB-A980-8B366CBC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D0D-56C9-4340-8A01-75B8806A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A78-63DE-4702-AB6D-9615B7DD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E49-366A-484B-99D6-A16B34AC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767-D8AB-4AC1-83F9-E897C859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2F2-E391-41C1-BC86-CB6D9C1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0CF-31C5-4E23-BD65-196EF8F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FE7-5638-4DB2-8626-B1496799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FCE-CD1F-435D-BBF6-A6DD4C58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62E29D-2473-4F43-A16F-3C68CF3DB15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160" y="8672400"/>
            <a:ext cx="3735360" cy="914400"/>
          </a:xfrm>
          <a:prstGeom prst="rect">
            <a:avLst/>
          </a:prstGeom>
          <a:solidFill>
            <a:srgbClr val="bcbcb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8763120"/>
            <a:ext cx="1219320" cy="113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9372600"/>
            <a:ext cx="2590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500" spc="-1" strike="noStrike">
                <a:solidFill>
                  <a:srgbClr val="1e0098"/>
                </a:solidFill>
                <a:latin typeface="Trebuchet MS"/>
              </a:rPr>
              <a:t>Sponsored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2839" t="11473" r="16796" b="12823"/>
          <a:stretch/>
        </p:blipFill>
        <p:spPr>
          <a:xfrm>
            <a:off x="4343400" y="8686800"/>
            <a:ext cx="1981080" cy="65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69920"/>
            <a:ext cx="6858000" cy="272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160" y="3081240"/>
            <a:ext cx="7316640" cy="1643040"/>
          </a:xfrm>
          <a:prstGeom prst="rect">
            <a:avLst/>
          </a:prstGeom>
          <a:solidFill>
            <a:srgbClr val="d7d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160" y="3470400"/>
            <a:ext cx="724032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Americas 2011 is an 8 day gathering of the GMOD Community featuring a community meeting, satellite meetings, and a GMOD school. If you are looking to exploit (or just get a handle on) your recent or coming datasets, please consider attending one or more events at GMOD Americas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open source software components for managing, visualizing and annotating biological data.  It is also an active community of biologists and developers addressing common challenges with a shared tool s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9440" y="3048120"/>
            <a:ext cx="3052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MOD Americas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4290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160" y="4916520"/>
            <a:ext cx="7316640" cy="1162080"/>
          </a:xfrm>
          <a:prstGeom prst="rect">
            <a:avLst/>
          </a:prstGeom>
          <a:solidFill>
            <a:srgbClr val="adf8f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560" y="4876920"/>
            <a:ext cx="2498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ommunity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525924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full days of presentations &amp; discussion on GMOD components, best practices, and project direction, featuring GMOD users and developers.  New, potential, and veteran users are encouraged to attend.  A special project overview session will be held the night before to introduce new and potential users to the GMOD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1520" y="9578880"/>
            <a:ext cx="384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mod.org/wiki/GMOD_Americs_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259240"/>
            <a:ext cx="7162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6281640"/>
            <a:ext cx="7316640" cy="804960"/>
          </a:xfrm>
          <a:prstGeom prst="rect">
            <a:avLst/>
          </a:prstGeom>
          <a:solidFill>
            <a:srgbClr val="97de9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7840" y="6242040"/>
            <a:ext cx="21938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atellite Meet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160" y="6624720"/>
            <a:ext cx="72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ay of informal special interest group / birds-of-a-feather meetings where GMOD Community members discuss and work on topics of common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62472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7278840"/>
            <a:ext cx="7316640" cy="1179360"/>
          </a:xfrm>
          <a:prstGeom prst="rect">
            <a:avLst/>
          </a:prstGeom>
          <a:solidFill>
            <a:srgbClr val="fcfe8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23920" y="7238880"/>
            <a:ext cx="19213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pring Trai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762156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-day hands on course on GMOD component installation, configuration and usage. The course will cover many popular components, including annot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R, Apol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visualiz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Browse, JBrowse, GBrowse_sy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database system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do, InterMine, Trip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analysis &amp; data integration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laxy, GFF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762156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600" y="8661240"/>
            <a:ext cx="3636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GMOD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5-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Community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atellite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8-1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pring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18:34Z</dcterms:created>
  <dc:creator>GMOD / NESCent</dc:creator>
  <dc:description/>
  <dc:language>en-US</dc:language>
  <cp:lastModifiedBy>GMOD / NESCent</cp:lastModifiedBy>
  <dcterms:modified xsi:type="dcterms:W3CDTF">2010-12-06T20:40:26Z</dcterms:modified>
  <cp:revision>2</cp:revision>
  <dc:subject/>
  <dc:title>PowerPoint Presentation</dc:title>
</cp:coreProperties>
</file>